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3.jpeg" ContentType="image/jpeg"/>
  <Override PartName="/ppt/media/image25.png" ContentType="image/png"/>
  <Override PartName="/ppt/media/image31.jpeg" ContentType="image/jpeg"/>
  <Override PartName="/ppt/media/image2.png" ContentType="image/png"/>
  <Override PartName="/ppt/media/apert2.wav" ContentType="audio/x-wav"/>
  <Override PartName="/ppt/media/image5.png" ContentType="image/png"/>
  <Override PartName="/ppt/media/image10.jpeg" ContentType="image/jpeg"/>
  <Override PartName="/ppt/media/image30.png" ContentType="image/png"/>
  <Override PartName="/ppt/media/image4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7.gif" ContentType="image/gif"/>
  <Override PartName="/ppt/media/image29.gif" ContentType="image/gif"/>
  <Override PartName="/ppt/media/image3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28.gif" ContentType="image/gif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64B-49D5-450D-9476-74D6DBA4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8CA-98FA-4652-BBFE-A12351EA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9A7-C11A-4E6F-A08C-3110579A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563-A550-4D0E-9399-E5B30007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1C7-CF83-4A2D-AEA7-1A770900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E0D-666C-48E6-8154-AC6F716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B3E0-B35C-4387-938A-4936955F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DB5E-BCFC-4DCF-859C-7CBBBEA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575D-C02A-467D-9AA2-69DE02A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0117-935F-49C7-A5C9-48635B1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D19B-D057-41AD-A6BA-7C64DBA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FBF-5E39-4498-92BD-7458DE1D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050C-7E53-438A-BE21-188203A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13D4-6E1A-4DF6-B7EA-35FC89AA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9444-31CE-4448-B089-4E1C752F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609F-8973-477F-9BD9-D3480FEF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ACC0-7212-4B22-804E-14637B23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B8F0-EE06-4140-9D07-94F58CA1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CCE9-F805-4BF7-9406-56A3768E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20F4-4A6E-4ACB-9412-F00155E0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F9F35-294A-458C-B89E-0C15957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D8EA-95CF-4CE6-BF66-26994A3A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A64-E200-443B-A5A0-132FCB1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0157-6BE6-4A4A-AF40-67D08124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42F3-37A1-4E6C-A423-D228ED8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1098-D666-4ABF-B2D1-563BA4C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B3E2-D4CC-41B5-9266-F5EEDB3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01C4-3877-438D-995F-3920694E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6C12-EAEF-4487-969C-EB2189EE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59EB-9736-4D04-A74E-0964C6E6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7EE4-72BA-4F21-ADCE-E62CFFA8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0DB3-F8EF-4DF4-96DC-ED13B1EA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9412-A3DD-48FB-99EB-945A2008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F0E-E297-48DE-ADD5-F5AA1749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8104-099D-49A9-9274-49E4C975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AF92-5CF6-4B25-B6BC-02CFCEB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AAE2C-E40A-48F1-904D-08B4BF09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4899-FACE-40F6-8094-69A1260D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B164-6FA6-45FB-A21F-A0CFC16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1AF6-738B-4CFC-A808-9D40552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6F43-CB4A-414D-958B-D40531FB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78CA-884D-492D-966A-F3853B05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F4EA-018B-41AA-B99D-41CBD99B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FC0-2E50-40F3-91AF-73B309C5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667-E344-4417-B77F-2711C43B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056-E16B-4ACE-8FCB-8375F32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429-880C-4752-A3F6-82EA3784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CFF-BEFF-41AA-9CB5-275D901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CC8EDC-E72C-4904-B6CF-C59BF7B457DB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CD1FCB-0F4E-436E-970E-B5C47A2587A7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316508-EBFE-477D-8912-C0228075DA4E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13B2C8-C0DE-44A8-84C2-7188A0E824ED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apert2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THE</a:t>
            </a:r>
            <a:r>
              <a:rPr b="1" lang="en-US" sz="5000" spc="-1" strike="noStrike">
                <a:solidFill>
                  <a:srgbClr val="e2d700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WAT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1" lang="en-US" sz="4800" spc="-1" strike="noStrike">
                <a:solidFill>
                  <a:srgbClr val="e2d700"/>
                </a:solidFill>
                <a:latin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 rot="20922600">
            <a:off x="785880" y="3112560"/>
            <a:ext cx="3174840" cy="312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585000">
            <a:off x="4731840" y="3265560"/>
            <a:ext cx="36036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THE LAKE IN DOJRAN IS CURATIVE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GAE CURE THE PEO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9a956"/>
                </a:solidFill>
                <a:latin typeface="Times New Roman"/>
              </a:rPr>
              <a:t>ANIMAL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 flipH="1" rot="10057800">
            <a:off x="393480" y="2286000"/>
            <a:ext cx="4030560" cy="344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DELFIN.jpg"/>
          <p:cNvPicPr/>
          <p:nvPr/>
        </p:nvPicPr>
        <p:blipFill>
          <a:blip r:embed="rId2"/>
          <a:stretch/>
        </p:blipFill>
        <p:spPr>
          <a:xfrm rot="406200">
            <a:off x="4638600" y="215100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mk-MK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6" descr="meduza.jpg"/>
          <p:cNvPicPr/>
          <p:nvPr/>
        </p:nvPicPr>
        <p:blipFill>
          <a:blip r:embed="rId1"/>
          <a:stretch/>
        </p:blipFill>
        <p:spPr>
          <a:xfrm>
            <a:off x="4357800" y="500040"/>
            <a:ext cx="4286160" cy="3076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dzvezda.JPG"/>
          <p:cNvPicPr/>
          <p:nvPr/>
        </p:nvPicPr>
        <p:blipFill>
          <a:blip r:embed="rId2"/>
          <a:stretch/>
        </p:blipFill>
        <p:spPr>
          <a:xfrm rot="20467800">
            <a:off x="387360" y="774360"/>
            <a:ext cx="4203720" cy="3098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zelka.jpg"/>
          <p:cNvPicPr/>
          <p:nvPr/>
        </p:nvPicPr>
        <p:blipFill>
          <a:blip r:embed="rId3"/>
          <a:stretch/>
        </p:blipFill>
        <p:spPr>
          <a:xfrm rot="21084600">
            <a:off x="428760" y="349992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riba.jpg"/>
          <p:cNvPicPr/>
          <p:nvPr/>
        </p:nvPicPr>
        <p:blipFill>
          <a:blip r:embed="rId4"/>
          <a:stretch/>
        </p:blipFill>
        <p:spPr>
          <a:xfrm rot="307200">
            <a:off x="4571640" y="3642840"/>
            <a:ext cx="39290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102520" cy="4376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419200" y="5361120"/>
            <a:ext cx="173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5765760" y="5221440"/>
            <a:ext cx="251928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1838175400491 0 L -0.645666576160739 0 E">
                                      <p:cBhvr>
                                        <p:cTn id="5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708360" y="928800"/>
            <a:ext cx="4578480" cy="5000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0" y="2924280"/>
            <a:ext cx="428472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CROCODI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18517512897096 0.078740157480315 L -0.567909313060005 0.078740157480315 E">
                                      <p:cBhvr>
                                        <p:cTn id="73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644076057643 -0.0420997375328084 L -0.570239622231549 -0.0420997375328084 E">
                                      <p:cBhvr>
                                        <p:cTn id="7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8031496062992 -0.186561679790026 E">
                                      <p:cBhvr>
                                        <p:cTn id="79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625840" y="1071720"/>
            <a:ext cx="5661000" cy="4786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468360" y="184464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DUC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3385826771654 0.294173228346457 E">
                                      <p:cBhvr>
                                        <p:cTn id="8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330708661417 0.320419947506562 E">
                                      <p:cBhvr>
                                        <p:cTn id="9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244" name="WordArt 3"/>
          <p:cNvSpPr txBox="1"/>
          <p:nvPr/>
        </p:nvSpPr>
        <p:spPr>
          <a:xfrm>
            <a:off x="971640" y="5661000"/>
            <a:ext cx="150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419640" y="189000"/>
            <a:ext cx="218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Times New Roman"/>
              </a:rPr>
              <a:t>ST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429400" cy="5057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160720" y="6024600"/>
            <a:ext cx="2679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38480" y="404640"/>
            <a:ext cx="466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e2d700"/>
                </a:solidFill>
                <a:latin typeface="Times New Roman"/>
              </a:rPr>
              <a:t>BAMBOO CA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THINK AND ANSWER THE FOLLOWING QUESTION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o lives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animal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plant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ow do aquatic animals move in their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Times New Roman"/>
              </a:rPr>
              <a:t>WHAT IS AN ENVIRONMEN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097080" cy="44182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>
            <a:off x="3708360" y="1844640"/>
            <a:ext cx="4929120" cy="2071800"/>
          </a:xfrm>
          <a:prstGeom prst="cloudCallout">
            <a:avLst>
              <a:gd name="adj1" fmla="val -56634"/>
              <a:gd name="adj2" fmla="val 12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mk-MK" sz="1800" spc="-1" strike="noStrike">
                <a:solidFill>
                  <a:srgbClr val="ffffff"/>
                </a:solidFill>
                <a:latin typeface="Arial"/>
              </a:rPr>
              <a:t>ЖИВОТНА  СРЕДИНА  Е        </a:t>
            </a:r>
            <a:r>
              <a:rPr b="0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An environment is a place where there are conditions for life for the plants and the anim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a956"/>
                </a:solidFill>
                <a:latin typeface="Constantia"/>
              </a:rPr>
              <a:t>LET’S THINK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d700"/>
                </a:solidFill>
                <a:latin typeface="Constantia"/>
              </a:rPr>
              <a:t>WHO LIVES IN THE WATER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13" descr="question-mark.jpg"/>
          <p:cNvPicPr/>
          <p:nvPr/>
        </p:nvPicPr>
        <p:blipFill>
          <a:blip r:embed="rId1"/>
          <a:stretch/>
        </p:blipFill>
        <p:spPr>
          <a:xfrm rot="20863800">
            <a:off x="755280" y="980640"/>
            <a:ext cx="2303640" cy="2116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kids.jpg"/>
          <p:cNvPicPr/>
          <p:nvPr/>
        </p:nvPicPr>
        <p:blipFill>
          <a:blip r:embed="rId2"/>
          <a:stretch/>
        </p:blipFill>
        <p:spPr>
          <a:xfrm rot="680400">
            <a:off x="5149800" y="937800"/>
            <a:ext cx="2871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FLOWE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LOTU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Picture 3" descr="lotos.jpg"/>
          <p:cNvPicPr/>
          <p:nvPr/>
        </p:nvPicPr>
        <p:blipFill>
          <a:blip r:embed="rId1"/>
          <a:stretch/>
        </p:blipFill>
        <p:spPr>
          <a:xfrm>
            <a:off x="179280" y="1935000"/>
            <a:ext cx="8713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928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gistered User</dc:creator>
  <dc:description/>
  <dc:language>en-US</dc:language>
  <cp:lastModifiedBy>Daniela</cp:lastModifiedBy>
  <dcterms:modified xsi:type="dcterms:W3CDTF">2011-12-14T20:49:57Z</dcterms:modified>
  <cp:revision>20</cp:revision>
  <dc:subject/>
  <dc:title>Slide 1</dc:title>
</cp:coreProperties>
</file>